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882-DC6F-4AB0-B06C-A4AC61E1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95C-DD2B-4378-BD25-4BA95E1F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94A-BD10-4D0F-A241-532BAC4F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2D8-4F1A-410A-95E9-95815BD6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2C3-3A74-4F72-B633-F53E7CF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C27-CD47-4DF7-B47D-51CD583D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01E-0B05-4D82-8A57-BB1D9D9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B88-A1B3-44D8-8EB1-7253E63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280-8CF2-4DCA-851A-5F30FE7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543-EA5A-4415-9101-9CE8E72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C5B-4C69-40AC-B321-BBEE956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FC3-E80D-4153-9166-162B9CD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543-4B77-4029-9668-EC0A50D57C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ips and Guidelines for Creating a Charact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taken from ttms.org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original.  Don’t use characters you already know from books, movies or TV shows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someone in whom you are interested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a human be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a person who does not exist in the real world.  Don’t use friends and family members as characters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realistic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just one main character.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Make your character a type of person about whom you would know a l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4:08:46Z</dcterms:created>
  <dc:creator>AAPS</dc:creator>
  <dc:description/>
  <dc:language>en-US</dc:language>
  <cp:lastModifiedBy>Carrie Dworkin</cp:lastModifiedBy>
  <dcterms:modified xsi:type="dcterms:W3CDTF">2005-08-12T15:45:54Z</dcterms:modified>
  <cp:revision>3</cp:revision>
  <dc:subject/>
  <dc:title>Tips and Guidelines for creating a character</dc:title>
</cp:coreProperties>
</file>